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26313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73260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748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4149360" y="0"/>
            <a:ext cx="31748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261800" y="720360"/>
            <a:ext cx="48020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732960" y="4560480"/>
            <a:ext cx="5861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9120240"/>
            <a:ext cx="31748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4149360" y="9120240"/>
            <a:ext cx="31748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7966-6263-4AF7-AE7F-8FBB224F8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6216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2960" y="4560480"/>
            <a:ext cx="5861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come and introd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 teach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 has used a SMARTboard in their classroom  for 3 years or m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has used a SMARTboard in their classroom  from 1-2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oesn’t have a SMARTboard in their ro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612-FAE4-4793-AE08-9C64B0F9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48480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7BB6-347F-4170-8C1D-D65B574C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261-2A48-4CDE-85BD-56C77E75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362-FF8C-455E-8885-3572FF4F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A55D-3EF7-41FD-A12A-2DAD638C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C2C1-0FC2-45CD-9038-2AD5EDA1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030D-D165-4734-8C7F-E8DE9788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FF05-1E4F-41E9-B17E-4F1EDDCC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F324-1361-4E69-A73D-61DA8077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3520" y="110880"/>
            <a:ext cx="71625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9D48-8644-47A9-8CED-E04F3FFB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CF06-B227-4AC6-9E47-3AA97F72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B8B-1743-4567-B0C7-1DAA9E93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3EE8-920A-4C6B-B698-17E7435F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F2F6-0DC6-45AF-B82B-C2A468F3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48480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E831-15F2-4264-9591-02B74C4B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652C-380B-4D70-B96E-3B88FE74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BA39-3A85-48BD-BACF-7905DD48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9DE-E1FC-44A1-91BF-27FBFDD7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07A-2F75-48DB-A67E-3DF8C575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E74-0E43-4650-9C07-BA73E0FD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520" y="110880"/>
            <a:ext cx="71625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FAD-406E-4ED7-8958-C85DBE37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DC3-760C-4F2E-9AC3-17696E53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237-6EB8-4158-BA4E-91F9EF1D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0AC-076A-46AF-A073-DF941D91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3C54-FC8E-4596-8508-70A9463C0C1E}" type="slidenum"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A699-9FCF-4AB1-A0EB-3CFBBA7DC10C}" type="slidenum"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ducation.smarttech.com/ste/en-us/Ed+Resource/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deal.azed.gov/" TargetMode="External"/><Relationship Id="rId2" Type="http://schemas.openxmlformats.org/officeDocument/2006/relationships/hyperlink" Target="http://www.thinkfinity.org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ongwood.k12.ny.us/longsmart3.html" TargetMode="External"/><Relationship Id="rId2" Type="http://schemas.openxmlformats.org/officeDocument/2006/relationships/hyperlink" Target="http://www.amphi.com/departments/technology/whiteboard/lessonplans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603520"/>
            <a:ext cx="9144000" cy="2425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reating Lessons on Interactive Whiteboards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4560" y="533412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</a:rPr>
              <a:t>Mitchell Elementary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Interactive Whiteboards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895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Power lies in interactivity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Can be used many ways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Graphic organizer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Internet activiti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PowerPoint presentation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Peer editing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219060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3" name="smartboard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05792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How to Create a Lesson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Think of your objectives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How can you get students involved?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Engaging Lessons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2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Goal is to get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Comic Sans MS"/>
              </a:rPr>
              <a:t>them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up to the boar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Comic Sans MS"/>
              </a:rPr>
              <a:t>You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know the materi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Create task for them to do that requires manipulation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Have rest of class help person at boar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09800" y="1295280"/>
            <a:ext cx="3771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Other students take turns at boar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Have one student per day designated as “moderator” or “helper”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Teacher on one side of board, student on other side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Scan in pictures or other resourc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Templates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828800"/>
            <a:ext cx="8534520" cy="39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Lots of templates found in  SMART Design Gallery and Active Inspir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Can find more on the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SmartTech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Comic Sans MS"/>
              </a:rPr>
              <a:t> site and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Promethean Plane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Websites to Explore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DE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ea typeface="Times New Roman"/>
                <a:hlinkClick r:id="rId1"/>
              </a:rPr>
              <a:t>http://www.ideal.azed.gov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og in and Find Curriculum Resources on the left side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scovery Education has outstanding resources for students and teacher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Thinkfinity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ea typeface="Times New Roman"/>
                <a:hlinkClick r:id="rId2"/>
              </a:rPr>
              <a:t>http://www.thinkfinity.org/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site is available for students, parents, and   teacher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Interactive Whiteboard Resources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Teacher created lessons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Resources and Lesson Plans- Amphi District- Tucson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Resources to Explore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Learn Online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MART online professional development offerings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Promethean Planet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Click on the Professional Development tab for options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More to Learn and Explore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Visit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Edtech4az wiki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omic Sans MS"/>
              </a:rPr>
              <a:t>Resources from this presentation and more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7:41:36Z</dcterms:created>
  <dc:creator>Kathy Wagoner</dc:creator>
  <dc:description/>
  <dc:language>en-US</dc:language>
  <cp:lastModifiedBy>alumm</cp:lastModifiedBy>
  <dcterms:modified xsi:type="dcterms:W3CDTF">2010-05-17T20:29:57Z</dcterms:modified>
  <cp:revision>71</cp:revision>
  <dc:subject/>
  <dc:title>Get Smart</dc:title>
</cp:coreProperties>
</file>